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5CE-ED11-417C-AC7D-60916580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7E8-31DE-4154-A2A0-AC09DC68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BC4-14F4-40EC-BEC1-E0432E0E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D9F-ED09-4E9F-84CB-53E32F81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DE6-02F6-4DBA-8899-22DF1BA0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20C-C4C2-442C-A0CF-F7429E7D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906-9EA5-46EA-8371-B710A040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1F2-EF92-4436-A9B5-318B5BB1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23A-CBEF-474C-8CF5-0D05EE52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87F-70B4-4668-B0D5-011A146E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646-2372-4109-AB3E-837D3156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B38-0C11-4FA0-967A-7A73A36E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81FF-0A41-43FE-83B7-91103C03C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tentionallies.co.jp/content_normal.html" TargetMode="External"/><Relationship Id="rId2" Type="http://schemas.openxmlformats.org/officeDocument/2006/relationships/hyperlink" Target="http://www.gumblondes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skinner.com/gmodeler/app/ru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vitated.net/" TargetMode="External"/><Relationship Id="rId2" Type="http://schemas.openxmlformats.org/officeDocument/2006/relationships/hyperlink" Target="http://www.presstube.com/" TargetMode="External"/><Relationship Id="rId3" Type="http://schemas.openxmlformats.org/officeDocument/2006/relationships/hyperlink" Target="http://www.gskinner.com/gmodeler/app/run.html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1120" y="45684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sh MX 2004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29600" y="762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924680" y="457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6324480"/>
            <a:ext cx="1447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shant Kot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oming a Flash exp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520" y="159984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invol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gs, newsgroups, 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oth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out the “Flash Expert Kick Start” document I’ve provided with the lecture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9984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shant Koth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thary@purdue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web site, a dying 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poonerism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la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all the excitement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it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me something, F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ing a Flash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las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59984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ose oneself in an indecent man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ifty little software application that allows you to create everything from animations to full-blown RIAs deliverable in various form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520" y="159984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ugo Nakam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mBlo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33520" y="6094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520" y="159984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t Skinner’s G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520" y="159984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red Tarb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Pat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view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3520" y="6094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520" y="159984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nt my Flash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mp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frank (ok, so it’s not animation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all the excitement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9984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less upon re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scripting language – AS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riented (similar to JavaScri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ly well-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it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520" y="159984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, 3D, cartoon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, databases, XM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Interne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3T05:01:19Z</dcterms:created>
  <dc:creator>Nishant Kothary</dc:creator>
  <dc:description/>
  <dc:language>en-US</dc:language>
  <cp:lastModifiedBy>Nishant Kothary</cp:lastModifiedBy>
  <dcterms:modified xsi:type="dcterms:W3CDTF">2004-04-26T16:26:28Z</dcterms:modified>
  <cp:revision>12</cp:revision>
  <dc:subject/>
  <dc:title>Flash MX 2004 An Introduction</dc:title>
</cp:coreProperties>
</file>